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424-6D6D-47AC-9FE3-7787E7ED3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980-71B9-4194-8ED8-60503A7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E00-FAAE-4A39-A8AE-BD530E91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D04-C637-41B3-B016-B4E6C847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5394-0F07-4A69-A7D5-A5BD20A9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770E-FC26-44AB-A0DA-5FA8FBC3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F883-909D-449A-B2A8-BCE0E99D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9DC7-FC8F-4CC1-9BF0-EA4E5713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D4C6-5883-4B17-83AC-46787E7D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D8BD-990D-49D8-BF99-7B87A274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4B3E-079A-4DD1-9537-60CB496C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3FC-1EA8-4679-895F-2042648F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40CF-BEBA-4C2F-B1C2-CA9D441B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0D09A-EF66-4015-87FD-00F7DD5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3C05-CE99-4EE1-835D-AA2B3F38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9BA2-2E25-4110-B625-1C691442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54F-ABBF-4EE2-8077-DF57E0D2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B7EE-B0E8-4239-9284-87F89C58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8B0C-2330-47FC-9646-ACA20C6C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3804-35B9-48B3-838F-1F48FC56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9049B-369D-4317-AA58-64D71C20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9096-CC2E-4282-9B18-2A17AD23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22F-08EF-4DBF-B30B-D1E963D3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83DC-4459-416A-84C1-489C887A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26D1-9D44-49E5-B177-C148F99F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4DB6-71F6-4A50-8F02-10E5E3AE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8656-3964-4E57-A972-908BCFB3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A96A-E80A-44F2-8F7D-F1F8EEAF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0044-1219-40EA-A416-9F1A1509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B5B4-8768-42C9-8D27-A17B25B6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7F5AA-75B9-4820-8431-40DC5E85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6E413-41A2-4B96-AA34-6A62E9A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52269-3126-4BA0-AA1A-FC0D5B53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6E7-F85B-4038-914B-D400B010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3078-6702-4FD8-855B-C0F8A6F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FA4B9-52FB-469B-A24A-39D6301D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C50B-F025-4F7C-97A7-39ECDD74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59209-ABE1-4378-8128-54A6A779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D11D-F214-4C4E-B4E2-F518802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469EE-C602-4FDF-A1E2-3A777A39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CC899-CD6B-4516-91AA-717E0A6C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3E24-A801-45D4-B9F7-D56BE917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19642-F60E-4ED7-9B7F-75DD479A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533-075D-494F-A4E5-80FA2B49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07C-AD6A-4A93-9B4A-05B6D9F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DE6-C3FC-4378-A49F-73F245F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89B-1163-44F0-8135-8A8109FC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F9E0-89EA-4C16-BD3F-0646470A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EE5-0845-4F3D-B63E-F5F98255CA1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83BE-5E8A-4AEF-A2E4-BFAF986205A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5F68-19B2-4AAF-AAB9-C29536CF3BA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2FB-5B63-4292-B8B1-B53CACC165B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31 дека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A04-5ECB-4F69-9556-2ED2EE2C4DF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 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9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3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9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11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9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2-12T09:26:00Z</cp:lastPrinted>
  <dcterms:modified xsi:type="dcterms:W3CDTF">2019-12-12T09:26:08Z</dcterms:modified>
  <cp:revision>7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